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png" ContentType="image/png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554B5-DDC3-4F55-8AE0-6EFF32253A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creationrevolution.com/bacteria-share-metabolism-nanowire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his website has the byline: “Transforming the world with the Truth of Creation”…it would be interesting to examine the kind of evidence presented to challenge Evolution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danmarkltd.tripod.com/taxonomy/id6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sparknotes.com/biology/microorganisms/monera/section1.r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forum.ableton.com/viewtopic.php?f=40&amp;t=1872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healthwise-everythinghealth.blogspot.ca/2011/03/lifesaving-antibiotics-losing-power-du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n.wikipedia.org/wiki/Antibiotic_res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oum.ox.ac.uk/thezone/animals/animalid/images/kingdoms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nanogallery.info/news/?id=8694&amp;slid=news&amp;type=a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volution.berkeley.edu/evolibrary/article/evo_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peripatus.gen.nz/biology/Taxonom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of cyanobacteria from: http://www.masterfile.com/stock-photography/image/861-03335947/Cyanobacteria-prokaryotes-once-called-Blue-Green-Algae.-LM-X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of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. coli from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palaeos.org/index.php?title=Eubacteria&amp;oldid=286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C793-20B2-45AC-A2EA-830E7C8E3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06D3-3DB1-4D64-B4FC-5AE62BAA8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4F6B-39C4-4E9D-B9A5-106D2BAE9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C118-529F-40AB-A4DF-E892B6920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654F-FB9B-49D2-81A8-A4312AC0A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2F5F-BE3F-4AA3-ADFF-0301A79DC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DC72-008B-4E70-BE95-EBB010212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3A83-E438-4F65-AF71-FABE1A809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BAA2-571C-4FB3-8F8D-ABC151CA4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8B75-A418-45E2-A78C-F18DD008A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6158-D2E4-4C5E-9BC2-BC0AB5B4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FCE6-7E3C-42A3-8FF9-082FEC54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43335-FE9D-485E-85FA-D5A0E3489E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rokary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bacteria &amp; Archa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bact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characteristic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 loop of DNA + plasm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b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r more flagella, small hairlike pi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cell walls with peptidogly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remely diverse domai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484280" y="1981080"/>
            <a:ext cx="6174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bo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ligate aero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ultative aero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ligate anaero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nary f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ju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rizontal gene trans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340160" y="1523880"/>
            <a:ext cx="37386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ibiotics &amp; Resis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07880" y="1438200"/>
            <a:ext cx="327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151000" y="1981080"/>
            <a:ext cx="4842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075120" y="609480"/>
            <a:ext cx="29937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ce upon a time, there were only 5 Kingdom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901880" y="1981080"/>
            <a:ext cx="52639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then in 197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l Woese looked very closely at the Archaea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determined that they weren’t just another taxon of the kingdom Mon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648320" y="2209680"/>
            <a:ext cx="3809880" cy="36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cha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41907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mistry of cell membrane &amp; cell wall very different from Eubac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tic information distinct from Eubacteria &amp; eukary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48320" y="2181240"/>
            <a:ext cx="38098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logeny of 3 Doma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41600" y="1447920"/>
            <a:ext cx="39844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cha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ano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loph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reme thermoph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ychroph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kary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-celled 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membrane-bound organe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mportance of Prokary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ho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lpful roles in ecosystems &amp; 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ercial 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terial Dise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rlet fever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reptococcus pyogen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tanus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lostridium tetan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ulism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lostridium botulinu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ax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acillus anthrac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lera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ibrio cholera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2T16:25:00Z</dcterms:created>
  <dc:creator>rubina khan</dc:creator>
  <dc:description/>
  <dc:language>en-US</dc:language>
  <cp:lastModifiedBy>rubina khan</cp:lastModifiedBy>
  <dcterms:modified xsi:type="dcterms:W3CDTF">2015-02-12T11:36:42Z</dcterms:modified>
  <cp:revision>61</cp:revision>
  <dc:subject/>
  <dc:title>PowerPoint Presentation</dc:title>
</cp:coreProperties>
</file>